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436-35A5-4F85-BAAE-4B52A288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5DC-D7A0-44C7-8C68-623273E5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959-0E77-4211-BEAC-38B67616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BD5-44C6-47C2-A276-1DEAFC37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269-80F6-440A-9997-B9CA2919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040-9C4E-4C0F-951C-1E345CEA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86B-167C-4CF3-ADA9-07C15C74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8F7-81BF-49B4-B619-14C06FB4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061-ACC3-4E9D-8241-71796C4F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901-941E-4600-8E17-1B967D8B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1FA-CE7A-440E-BAEB-FE319B54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EC5-A0F7-4984-B982-C969DB3B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7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53DF-E485-4CAE-9706-D429EB414EDA}" type="slidenum">
              <a:rPr b="0" lang="ru-RU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197000"/>
            <a:ext cx="7128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Arial"/>
              </a:rPr>
              <a:t>Праздник в лесу</a:t>
            </a: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76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76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класс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60000"/>
                </a:solidFill>
                <a:latin typeface="Calibri"/>
              </a:rPr>
              <a:t>Какая птица прилетает к нам на зиму из северных лесов 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1" name="Picture 5" descr="542054-320"/>
          <p:cNvPicPr/>
          <p:nvPr/>
        </p:nvPicPr>
        <p:blipFill>
          <a:blip r:embed="rId1"/>
          <a:stretch/>
        </p:blipFill>
        <p:spPr>
          <a:xfrm>
            <a:off x="2266920" y="1484280"/>
            <a:ext cx="378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Птицы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3" name="Picture 6" descr="1260702549_snegiri011"/>
          <p:cNvPicPr/>
          <p:nvPr/>
        </p:nvPicPr>
        <p:blipFill>
          <a:blip r:embed="rId1"/>
          <a:stretch/>
        </p:blipFill>
        <p:spPr>
          <a:xfrm>
            <a:off x="324000" y="1125360"/>
            <a:ext cx="4103640" cy="294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680121_240"/>
          <p:cNvPicPr/>
          <p:nvPr/>
        </p:nvPicPr>
        <p:blipFill>
          <a:blip r:embed="rId2"/>
          <a:stretch/>
        </p:blipFill>
        <p:spPr>
          <a:xfrm>
            <a:off x="4500720" y="1197000"/>
            <a:ext cx="4427280" cy="291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485968_70"/>
          <p:cNvPicPr/>
          <p:nvPr/>
        </p:nvPicPr>
        <p:blipFill>
          <a:blip r:embed="rId3"/>
          <a:stretch/>
        </p:blipFill>
        <p:spPr>
          <a:xfrm>
            <a:off x="2556000" y="3649680"/>
            <a:ext cx="43210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Звери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7" name="Picture 5" descr="0_1da73_e33c2083_XL"/>
          <p:cNvPicPr/>
          <p:nvPr/>
        </p:nvPicPr>
        <p:blipFill>
          <a:blip r:embed="rId1"/>
          <a:stretch/>
        </p:blipFill>
        <p:spPr>
          <a:xfrm>
            <a:off x="1258920" y="1125360"/>
            <a:ext cx="68342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Деревья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9" name="Picture 5" descr="el3"/>
          <p:cNvPicPr/>
          <p:nvPr/>
        </p:nvPicPr>
        <p:blipFill>
          <a:blip r:embed="rId1"/>
          <a:stretch/>
        </p:blipFill>
        <p:spPr>
          <a:xfrm>
            <a:off x="684360" y="1341360"/>
            <a:ext cx="3332160" cy="446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ereza_belaya_zima"/>
          <p:cNvPicPr/>
          <p:nvPr/>
        </p:nvPicPr>
        <p:blipFill>
          <a:blip r:embed="rId2"/>
          <a:stretch/>
        </p:blipFill>
        <p:spPr>
          <a:xfrm>
            <a:off x="4427640" y="1268280"/>
            <a:ext cx="4248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Овощи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2" name="Рисунок 3" descr="морко.jpg"/>
          <p:cNvPicPr/>
          <p:nvPr/>
        </p:nvPicPr>
        <p:blipFill>
          <a:blip r:embed="rId1"/>
          <a:stretch/>
        </p:blipFill>
        <p:spPr>
          <a:xfrm>
            <a:off x="539640" y="1197000"/>
            <a:ext cx="3143520" cy="307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пус.jpg"/>
          <p:cNvPicPr/>
          <p:nvPr/>
        </p:nvPicPr>
        <p:blipFill>
          <a:blip r:embed="rId2"/>
          <a:stretch/>
        </p:blipFill>
        <p:spPr>
          <a:xfrm>
            <a:off x="5003640" y="1268280"/>
            <a:ext cx="3643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Неживая природа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5" name="Picture 5" descr="52924181_snow"/>
          <p:cNvPicPr/>
          <p:nvPr/>
        </p:nvPicPr>
        <p:blipFill>
          <a:blip r:embed="rId1"/>
          <a:stretch/>
        </p:blipFill>
        <p:spPr>
          <a:xfrm>
            <a:off x="179280" y="2492280"/>
            <a:ext cx="4826160" cy="395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yasno"/>
          <p:cNvPicPr/>
          <p:nvPr/>
        </p:nvPicPr>
        <p:blipFill>
          <a:blip r:embed="rId2"/>
          <a:stretch/>
        </p:blipFill>
        <p:spPr>
          <a:xfrm>
            <a:off x="4140360" y="126828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9+1=10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8" name="Picture 6" descr="ad0faab3-e1e2-45e3-9082-36f1510cb9e8_jpg_300x100000_q85"/>
          <p:cNvPicPr/>
          <p:nvPr/>
        </p:nvPicPr>
        <p:blipFill>
          <a:blip r:embed="rId1"/>
          <a:stretch/>
        </p:blipFill>
        <p:spPr>
          <a:xfrm>
            <a:off x="1476360" y="164772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hasyCHpana"/>
          <p:cNvPicPr/>
          <p:nvPr/>
        </p:nvPicPr>
        <p:blipFill>
          <a:blip r:embed="rId1"/>
          <a:stretch/>
        </p:blipFill>
        <p:spPr>
          <a:xfrm>
            <a:off x="1547640" y="434880"/>
            <a:ext cx="61930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971640" y="2133720"/>
            <a:ext cx="7200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Знакомство с текстом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Праздник в лесу.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840" y="1285920"/>
            <a:ext cx="8572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Под Новый год ребята устроили праздник для птиц и зверей. Они украсили ёлку сушёными ягодами рябины. К верхним веткам берёзки дети привязали две баранки. На нижние ветки берёзки повесили три морковки. Под ёлку в снег воткнули кочан капусты. 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С первыми лучами солнца к ёлке прилетели снегири, воробьи, синицы. Они радостно щебетали, угощались подарками. Вечером под берёзкой хлопотали два зайца. Они лакомились сочной капустой и сладкой морковкой.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опросы к тексту.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284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6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устроили ребята в лесу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ем украсили ёлку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привязали к верхним веткам берёзы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прикрепили к нижним веткам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уда воткнули кочан капусты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акие птицы прилетели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то хлопотал вечером под берёзкой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141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Лексическая подготовка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бери синонимы к словам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Устроили- 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Щебетали- ______________</a:t>
            </a:r>
            <a:br>
              <a:rPr sz="3200"/>
            </a:b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Лакомились- 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Украсили-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бери антонимы к словам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Верхний-____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Радостно-________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Утром-__________________ 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Лексическая подготовка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Объясни значение слов:</a:t>
            </a:r>
            <a:endParaRPr b="0" lang="en-US" sz="4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Хлопотали, лакомились, щебетали.</a:t>
            </a:r>
            <a:endParaRPr b="0" lang="en-US" sz="48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1628640"/>
            <a:ext cx="72327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Лакомились-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539640" y="198900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заниматься чем-либо с усердием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324000" y="1268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Хлопотали-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11280" y="2637000"/>
            <a:ext cx="723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ели что-то вкусное</a:t>
            </a: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395280" y="4724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Щебетали-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395280" y="537372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пели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Чем ребята украсили </a:t>
            </a:r>
            <a:r>
              <a:rPr b="1" lang="ru-RU" sz="4400" spc="-1" strike="noStrike">
                <a:solidFill>
                  <a:srgbClr val="760000"/>
                </a:solidFill>
                <a:latin typeface="Calibri"/>
              </a:rPr>
              <a:t>берёзку?</a:t>
            </a: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57" name="Picture 8" descr="%20%20%D1%81%D0%B4%D0%BE%D0%B1%D0%BD%D1%8B%D0%B5"/>
          <p:cNvPicPr/>
          <p:nvPr/>
        </p:nvPicPr>
        <p:blipFill>
          <a:blip r:embed="rId1"/>
          <a:stretch/>
        </p:blipFill>
        <p:spPr>
          <a:xfrm>
            <a:off x="468360" y="1773360"/>
            <a:ext cx="4268880" cy="310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arrots"/>
          <p:cNvPicPr/>
          <p:nvPr/>
        </p:nvPicPr>
        <p:blipFill>
          <a:blip r:embed="rId2"/>
          <a:stretch/>
        </p:blipFill>
        <p:spPr>
          <a:xfrm>
            <a:off x="5003640" y="1787400"/>
            <a:ext cx="33847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Животные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1" name="Picture 7" descr="post-19-1197304792_thumb"/>
          <p:cNvPicPr/>
          <p:nvPr/>
        </p:nvPicPr>
        <p:blipFill>
          <a:blip r:embed="rId1"/>
          <a:stretch/>
        </p:blipFill>
        <p:spPr>
          <a:xfrm>
            <a:off x="1403280" y="126828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ousesparrowmale2"/>
          <p:cNvPicPr/>
          <p:nvPr/>
        </p:nvPicPr>
        <p:blipFill>
          <a:blip r:embed="rId2"/>
          <a:stretch/>
        </p:blipFill>
        <p:spPr>
          <a:xfrm>
            <a:off x="5003640" y="141300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sinitsa"/>
          <p:cNvPicPr/>
          <p:nvPr/>
        </p:nvPicPr>
        <p:blipFill>
          <a:blip r:embed="rId3"/>
          <a:stretch/>
        </p:blipFill>
        <p:spPr>
          <a:xfrm>
            <a:off x="4716360" y="3933720"/>
            <a:ext cx="3097440" cy="217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picture-300h"/>
          <p:cNvPicPr/>
          <p:nvPr/>
        </p:nvPicPr>
        <p:blipFill>
          <a:blip r:embed="rId4"/>
          <a:stretch/>
        </p:blipFill>
        <p:spPr>
          <a:xfrm>
            <a:off x="971640" y="39337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Растения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6" name="Picture 4" descr="el3"/>
          <p:cNvPicPr/>
          <p:nvPr/>
        </p:nvPicPr>
        <p:blipFill>
          <a:blip r:embed="rId1"/>
          <a:stretch/>
        </p:blipFill>
        <p:spPr>
          <a:xfrm>
            <a:off x="395280" y="549360"/>
            <a:ext cx="2201760" cy="295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reza_belaya_zima"/>
          <p:cNvPicPr/>
          <p:nvPr/>
        </p:nvPicPr>
        <p:blipFill>
          <a:blip r:embed="rId2"/>
          <a:stretch/>
        </p:blipFill>
        <p:spPr>
          <a:xfrm>
            <a:off x="395280" y="3532320"/>
            <a:ext cx="3384720" cy="2970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капус.jpg"/>
          <p:cNvPicPr/>
          <p:nvPr/>
        </p:nvPicPr>
        <p:blipFill>
          <a:blip r:embed="rId3"/>
          <a:stretch/>
        </p:blipFill>
        <p:spPr>
          <a:xfrm>
            <a:off x="4788000" y="3838680"/>
            <a:ext cx="3313080" cy="266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morkov-1609"/>
          <p:cNvPicPr/>
          <p:nvPr/>
        </p:nvPicPr>
        <p:blipFill>
          <a:blip r:embed="rId4"/>
          <a:stretch/>
        </p:blipFill>
        <p:spPr>
          <a:xfrm>
            <a:off x="4859280" y="1268280"/>
            <a:ext cx="3348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9:06:15Z</dcterms:created>
  <dc:creator>ЛИЛИЯ</dc:creator>
  <dc:description/>
  <dc:language>en-US</dc:language>
  <cp:lastModifiedBy>68</cp:lastModifiedBy>
  <dcterms:modified xsi:type="dcterms:W3CDTF">2013-01-18T03:59:45Z</dcterms:modified>
  <cp:revision>67</cp:revision>
  <dc:subject/>
  <dc:title>Слайд 1</dc:title>
</cp:coreProperties>
</file>